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6D5D-0B6F-4132-9F5B-C332683D6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7D1E-9E50-46EC-A016-4BC0B386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C76-6626-4BC5-BA22-BC94E04B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3FB-9818-456D-88ED-52D90F88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4EB-79B0-4DE5-9528-18E0E6C8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365-2736-49F5-A05E-2E62EA40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4CF-55C0-4ECA-93BF-91994C21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CD8-1E97-46E5-9C67-59A92A6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A32-ED3C-4E23-834B-B801A1D7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F39-1052-4C0D-A1F5-46BC55A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60A-2E77-4A24-AB5D-F3679C70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3B7-CF46-4D72-ABF1-78AC7DA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CB8-BB2F-47AB-A3C4-0709B78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E51-9D67-4256-B5D3-AC65B8B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62FC-CFA8-4E1F-B7C6-D1A498DF1CCA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Lesson 9 Reading Test Review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Name a word using the root </a:t>
            </a:r>
            <a:r>
              <a:rPr b="1" i="1" lang="en-US" sz="4800" spc="-1" strike="noStrike">
                <a:solidFill>
                  <a:srgbClr val="ff9933"/>
                </a:solidFill>
                <a:latin typeface="Times New Roman"/>
              </a:rPr>
              <a:t>rupt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.  What does the word mean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rupt; interrupt; ruptur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09480" y="14479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a word that contains the root </a:t>
            </a:r>
            <a:r>
              <a:rPr b="1" i="1" lang="en-US" sz="7200" spc="-1" strike="noStrike">
                <a:solidFill>
                  <a:srgbClr val="ff9933"/>
                </a:solidFill>
                <a:latin typeface="Times New Roman"/>
              </a:rPr>
              <a:t>scribe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.  What does this word m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Inscribe; scribble; describe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09480" y="304920"/>
            <a:ext cx="79250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fter the father gives the boys orders on pages 6 and 7, you can draw the conclusion that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Father wants to be prepared in case the levee break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boys are irresponsible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levee probably won’t break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>
            <a:hlinkClick r:id="rId1" action="ppaction://hlinksldjump"/>
          </p:cNvPr>
          <p:cNvSpPr/>
          <p:nvPr/>
        </p:nvSpPr>
        <p:spPr>
          <a:xfrm>
            <a:off x="-45720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21337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304920"/>
            <a:ext cx="76960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What conclusion can you draw from the second paragraph on page 9?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flood was not a big deal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flood was causing major damage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boys were happy to get to see this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21337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b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685800"/>
            <a:ext cx="79246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father (Doc Travers) believes that –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flood damage is not that bad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boys can’t complete the tasks he ask of them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boys will be able to handle the tasks he asks of them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town won’t have many injured people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3808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52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.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conclusion can you draw about Doc Trav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4572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62120" y="228600"/>
            <a:ext cx="78483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e is a brave man who cares a lot about others and his family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e believes in his sons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e cares about his tow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1430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 the boys feel after they find the grandma and Mo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roud of themselves; happy to have helped others; worried about the future of their town; relieved that they had saved lives and that their home was safe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7524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 good readers infer or predict in a stor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7621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Good readers use text details, titles, illustrations, captions, and their own knowledge to figure out what will happen next in a story or to figure out what the author wants you to know, but hasn’t come right out and stated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5800" y="5335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details helped you infer that Jimmy was nervous about the rescues of the newborn and his mother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5800" y="304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or Jimmy, saying was a lot easier than doing; though his hands felt clammy; ‘What’ll we do Jess?’”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8896320" y="4395960"/>
            <a:ext cx="4680" cy="360"/>
          </a:xfrm>
          <a:custGeom>
            <a:avLst/>
            <a:gdLst>
              <a:gd name="textAreaLeft" fmla="*/ 0 w 4680"/>
              <a:gd name="textAreaRight" fmla="*/ 5040 w 4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592" h="1">
                <a:moveTo>
                  <a:pt x="0" y="0"/>
                </a:moveTo>
                <a:lnTo>
                  <a:pt x="4591" y="0"/>
                </a:lnTo>
                <a:close/>
              </a:path>
            </a:pathLst>
          </a:custGeom>
          <a:solidFill>
            <a:srgbClr val="3333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9020160" y="4319640"/>
            <a:ext cx="4680" cy="360"/>
          </a:xfrm>
          <a:custGeom>
            <a:avLst/>
            <a:gdLst>
              <a:gd name="textAreaLeft" fmla="*/ 0 w 4680"/>
              <a:gd name="textAreaRight" fmla="*/ 5040 w 4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593" h="1">
                <a:moveTo>
                  <a:pt x="0" y="0"/>
                </a:moveTo>
                <a:lnTo>
                  <a:pt x="4592" y="0"/>
                </a:lnTo>
                <a:close/>
              </a:path>
            </a:pathLst>
          </a:custGeom>
          <a:solidFill>
            <a:srgbClr val="3333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371600" y="1447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hat details helped you predict that the boys would probably save the person first, then go back for Moose?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he boys were torn…..Yet as much as they wanted to rescue their dog, they knew they had to investigate the cries for help first.”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omp. Skill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ild Card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omp.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trategy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Vocabulary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1736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can you predict about Charley and the boys at the end of the stor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62120" y="68580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hey will become friends because the boys saved Charley and his family, and the family will be forever grateful to them.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3520" y="11736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can you infer about the boys after reading the stor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" y="21337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y are brave, young men, who are proud of their rescues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09480" y="0"/>
            <a:ext cx="7848720" cy="67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The kids wore their boots.  It was snowing outside.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ecause it was snowing outside, the kids wore their boots?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t was snowing outside, the kids wore their boots.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The kids wore boots, so it was snowing.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5800" y="304920"/>
            <a:ext cx="7848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.  It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, and it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, but it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, which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38080" y="838080"/>
            <a:ext cx="762012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ngela is good at gymnastics.  She enters in competitions.  She loses sometimes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gela is good at gymnastics, but loses when she enters competitions all the time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gela, who is good at gymnastics, enters in competitions, but sometimes loses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gela loses competitions sometimes, which she is good at gymnastics.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38080" y="21337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a synonym for the word </a:t>
            </a:r>
            <a:r>
              <a:rPr b="1" lang="en-US" sz="7200" spc="-1" strike="noStrike" u="sng">
                <a:solidFill>
                  <a:srgbClr val="ff9933"/>
                </a:solidFill>
                <a:uFillTx/>
                <a:latin typeface="Times New Roman"/>
              </a:rPr>
              <a:t>critical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380880" y="457200"/>
            <a:ext cx="87631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he movie starts in fifteen minutes.  We need to pick up Susan.  We must leave now.  We don’t want to be lat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e will be late if we pick up Susan if we leave now, the movie starts in fifteen minutes.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e better leave now to pick up Susan because the movie starts in fifteen minutes, and we don’t want to be lat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he movie starts in fifteen minutes, we will be late because we have to pick up Susan, if we leave now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85800" y="533520"/>
            <a:ext cx="79246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 usually loses.  She is not a dedicated swimmer.  She does not practic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 does not practice because she is not a dedicated swimmer, so she usually loses. 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 usually loses, not a dedicated swimmer, because she doesn’t practice.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, missing practice, is not dedicated, and is not winning.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457200"/>
            <a:ext cx="77724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Is the following sentence compound or complex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en the children walked out the door, they could now believe their eyes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lex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0" y="-12193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28600"/>
            <a:ext cx="807732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can you infer about Jimmy and Jess’s mom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he is a mean woma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he is not a good mother to the boys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he is scared for her boys, but proud of them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533520"/>
            <a:ext cx="78483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Is the following sentence compound or complex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e didn’t answer the door, because we knew the salesman was pushy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oun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vital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2120" y="1523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does the word </a:t>
            </a:r>
            <a:r>
              <a:rPr b="1" lang="en-US" sz="7200" spc="-1" strike="noStrike" u="sng">
                <a:solidFill>
                  <a:srgbClr val="ff9933"/>
                </a:solidFill>
                <a:uFillTx/>
                <a:latin typeface="Times New Roman"/>
              </a:rPr>
              <a:t>realization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m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udden awarenes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85800" y="685800"/>
            <a:ext cx="7772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conclusion can you draw about Charley’s father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5800" y="213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e believes in his son and feels that he, with the boys help, is capable of finding his grandmother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5800" y="13716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hat generalization can you make about the people in Greenville, Mississippi?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1600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a synonym for the word </a:t>
            </a:r>
            <a:r>
              <a:rPr b="1" lang="en-US" sz="7200" spc="-1" strike="noStrike" u="sng">
                <a:solidFill>
                  <a:srgbClr val="ff9933"/>
                </a:solidFill>
                <a:uFillTx/>
                <a:latin typeface="Times New Roman"/>
              </a:rPr>
              <a:t>squalling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creaming or yelling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838080" y="380880"/>
            <a:ext cx="74678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Name a word using the root </a:t>
            </a:r>
            <a:r>
              <a:rPr b="1" i="1" lang="en-US" sz="6000" spc="-1" strike="noStrike">
                <a:solidFill>
                  <a:srgbClr val="ff9933"/>
                </a:solidFill>
                <a:latin typeface="Times New Roman"/>
              </a:rPr>
              <a:t>photo</a:t>
            </a: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does the word mean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5800" y="2133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hotograph; photography; photosynthesis; etc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trolio</cp:lastModifiedBy>
  <dcterms:modified xsi:type="dcterms:W3CDTF">2012-01-09T21:39:04Z</dcterms:modified>
  <cp:revision>50</cp:revision>
  <dc:subject/>
  <dc:title>No Slide Title</dc:title>
</cp:coreProperties>
</file>